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469-CF3A-43A0-B518-67476DCB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715-429D-44E4-A290-773E09A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93A-636D-4E84-BC26-08B0017C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7DF-20BB-45C0-8829-4024A7E0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D947-6ABA-4F9A-95A4-0F1F0716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06E0-603A-4589-A455-8E1A052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9F41-9C46-4C34-84FC-B63046A8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0EEE-B801-4C7E-92A9-592BAF0E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A72-ED4D-4BF0-A17E-5813613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5B19-335E-4AC7-ADA0-433220CE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AE5-0B26-46FF-9D62-EBF2615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307-2E05-4F76-92F6-8FF0F5F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13E4-8090-402D-A78E-A4C7D67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5A61-91C9-49FB-80AE-CF74912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990D-39B0-4D5F-86FE-67EDFA6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0D30-38D1-4E50-9366-3528C3BC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DF70-A93A-46C4-BC9A-1B487B2D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D55-839F-439C-83EC-48EA7841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717-8DFE-4E5A-A554-DF2A9AE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B5F-3E7E-423D-A188-DE7D4CD1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23-FFAF-4CC9-A602-72B88B9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FE7-2A84-4EC1-910A-7AB27DA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A57-3574-4F34-94EB-0EE08AF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2AF-5537-484C-A5BE-2114191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B4CC-A916-44B9-BE86-C6560A0A31C0}" type="slidenum">
              <a:rPr b="0" lang="nl-NL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98F6-039C-44A1-8DD9-4C8FC4478D64}" type="slidenum">
              <a:rPr b="0" lang="nl-NL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Middleware at HVA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Assignment 4.5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ian Samso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&amp; Peter Tro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ues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.What is Middleware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.How is a database connection  between a client and a server established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.What is the advantage of ODBC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6699"/>
                </a:solidFill>
                <a:latin typeface="Arial Narrow"/>
              </a:rPr>
              <a:t>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Distributed Information Systems from Client/Server to Distributed Multimedia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009999"/>
                </a:solidFill>
                <a:latin typeface="Arial"/>
              </a:rPr>
              <a:t>Errol Simon, ISBN 0 07 709076 4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Microsoft SQL Server 6.5 Second Edition </a:t>
            </a:r>
            <a:r>
              <a:rPr b="0" i="1" lang="nl-NL" sz="2800" spc="-1" strike="noStrike">
                <a:solidFill>
                  <a:srgbClr val="009999"/>
                </a:solidFill>
                <a:latin typeface="Arial"/>
              </a:rPr>
              <a:t>Solomon, Rankins, et al., ISBN 0-672-30956-4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Middleware at HVA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504960" y="1981080"/>
            <a:ext cx="52578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. The E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http://www.troon.org/middleware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ssignment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Take a closer look at the middleware, which is needed to make a connection between a client machine and the database server at school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ypes of Middlewa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mote Data Access (RDA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mote procedure calls (RPC’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ssage-oriented middleware (MOM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bject Request Brokers(ORB’s) i.e. CORB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tributed transaction processing (DTP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r School’s Situ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icrosoft SQL Server running on a Windows NT Mach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client running on a Windows 95 Comput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atabase is used for user account data, user rights, etc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do we need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client progr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DB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RDA standard. In our case: ODB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database serv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good functioning network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Client/Server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7" name="cl2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49532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mote Reque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What happens if someone wants to perform an operation on the database server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cl5" descr=""/>
          <p:cNvPicPr/>
          <p:nvPr/>
        </p:nvPicPr>
        <p:blipFill>
          <a:blip r:embed="rId1"/>
          <a:stretch/>
        </p:blipFill>
        <p:spPr>
          <a:xfrm>
            <a:off x="3048120" y="4267080"/>
            <a:ext cx="57150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 of ODB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cl3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56386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lu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cept the hardware necessary to make a network connection you need software, that supports the RDA protocol if you want make a database connection between a client and a database server. In most cases an ODBC driver is us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4:39:07Z</dcterms:created>
  <dc:creator>Peter A. J. Troon</dc:creator>
  <dc:description/>
  <dc:language>en-US</dc:language>
  <cp:lastModifiedBy>Peter A. J. Troon</cp:lastModifiedBy>
  <dcterms:modified xsi:type="dcterms:W3CDTF">2000-05-08T17:56:32Z</dcterms:modified>
  <cp:revision>21</cp:revision>
  <dc:subject/>
  <dc:title>Middleware at HVA</dc:title>
</cp:coreProperties>
</file>